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58000" cy="9701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6858000" cy="970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13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Img"/>
          </p:nvPr>
        </p:nvSpPr>
        <p:spPr>
          <a:xfrm>
            <a:off x="1003320" y="726840"/>
            <a:ext cx="4851360" cy="363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14"/>
          </p:nvPr>
        </p:nvSpPr>
        <p:spPr>
          <a:xfrm>
            <a:off x="-360" y="92134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 type="sldNum" idx="15"/>
          </p:nvPr>
        </p:nvSpPr>
        <p:spPr>
          <a:xfrm>
            <a:off x="3884400" y="92134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674D-C2A9-468F-9CD5-BE6CF89976F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99E9-4D8B-484A-A6FE-DC7EC46CEA4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7509-25D2-40FF-BCEF-7F20D5E2A52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ier das Highligh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rtragsreihe über „Spielarten“ des Amateurfu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uer von ca. 45 Minu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angjährige Funkamateure als Ansprechpartner in den unterschiedlichsten Betriebsart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{Von OMs, die seit Jahren darin aktiv s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 verschiedenen Ortsverbänden in München.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&gt; Ziel: Wie werde ich akt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&gt; Termine voraussichtlich zum OV-Abend von C18 / erster steht schon fest (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Nächste Folie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Viel Aufwand -&gt;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timm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0295-A7BA-48C6-BB87-DE70FE9FB47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rster Vortrag: 12.05. 19 Uh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mateurfunk-Digitalfunk Netze (D-Star, DMR, Mototrb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rachkommunik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[ n i c h t_ über DV (Digital Voice, auf Kurzwelle) ]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=&gt; wäre weiteres The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alf, DL2MRB, Holger, DL9HM (ex-DO2Z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ldquelle: boger.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67F1-2576-48BC-879C-18060B81B50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0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11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12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3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4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5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6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7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8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9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itel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machen wir heu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763640" y="3510000"/>
            <a:ext cx="669456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ungsin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ragsprogramm / Weitere Aktivitä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ung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itel 1"/>
          <p:cNvSpPr/>
          <p:nvPr/>
        </p:nvSpPr>
        <p:spPr>
          <a:xfrm>
            <a:off x="685800" y="1554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machen wir heute sonst no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339640" y="2933280"/>
            <a:ext cx="6118200" cy="20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Prüfungsinfos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Vortragsprogramm / Weitere Aktivitä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tzt wird es er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13" descr="C:\Users\user\Documents\Eigene Dateien\Allround-Site ++ 09-08-12\Webseite - DL1RSF+++\web-content\images\atvsender.jpg"/>
          <p:cNvPicPr/>
          <p:nvPr/>
        </p:nvPicPr>
        <p:blipFill>
          <a:blip r:embed="rId1"/>
          <a:stretch/>
        </p:blipFill>
        <p:spPr>
          <a:xfrm>
            <a:off x="324000" y="260280"/>
            <a:ext cx="2160360" cy="15670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tragsrei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85800" y="1980720"/>
            <a:ext cx="7989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ell an Newcomer ausgerichte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ragsreihe: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ie werde ich aktiv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ATV / D-AT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Amateurfunkferns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ARD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Amateurfunkpei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D-Star / DM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Amateurfunk-Digitalfunk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steht bereits fes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HAMNE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Highspeed Amateurradio Multimedi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Satelli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QSOs: Die wichtigsten Infos für den Erstkontak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Kunst des </a:t>
            </a: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Hellschreib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SST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andere digitale Betriebs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6" descr="I:\AFu Ausbildung\ao-7.gif"/>
          <p:cNvPicPr/>
          <p:nvPr/>
        </p:nvPicPr>
        <p:blipFill>
          <a:blip r:embed="rId2"/>
          <a:stretch/>
        </p:blipFill>
        <p:spPr>
          <a:xfrm>
            <a:off x="5364000" y="0"/>
            <a:ext cx="2857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6443640" y="4076640"/>
            <a:ext cx="2085840" cy="22669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tragsreihe – Erster Ter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440" y="4581360"/>
            <a:ext cx="561492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ührung in die Amateurfunk-Digitalfunk Netzwerke (D-Star und DMR)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m OV-Abend von C18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am 12.05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19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alf, DL2MRB, Holger, DL9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2" descr="http://shop.boger.de/components/com_virtuemart/shop_image/product/ID_5100E_2m_70cm_542181338398b.jpg"/>
          <p:cNvPicPr/>
          <p:nvPr/>
        </p:nvPicPr>
        <p:blipFill>
          <a:blip r:embed="rId2"/>
          <a:stretch/>
        </p:blipFill>
        <p:spPr>
          <a:xfrm>
            <a:off x="250920" y="1112760"/>
            <a:ext cx="8599320" cy="339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3:16:25Z</dcterms:created>
  <dc:creator>vtk2006; Dominik Bok</dc:creator>
  <dc:description/>
  <dc:language>en-US</dc:language>
  <cp:lastModifiedBy>user</cp:lastModifiedBy>
  <dcterms:modified xsi:type="dcterms:W3CDTF">2015-03-30T19:40:03Z</dcterms:modified>
  <cp:revision>703</cp:revision>
  <dc:subject/>
  <dc:title>PowerPoint-Präsentation</dc:title>
</cp:coreProperties>
</file>